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312-75AB-471A-8760-159A1293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119-D2C7-49E5-B1FA-E7CEEEC7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3E7-4E1C-4CF9-82CD-F3DCB07F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8F1-A76C-4450-9C55-9FBDA682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876-7863-4D98-8BB5-EC2F8E8B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179-519B-4B9D-BB66-7BD46B5B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FC8-78A9-4658-A8C7-DAB14055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FE3-8DE5-4184-8403-3B4A68AD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529-7C2A-4A86-A704-287FE248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F6C-4B37-4F99-94C9-ED9A18A1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9E5-5E63-4236-9E84-32AEF54A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120-A5B7-482C-9449-3DA4F22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5AB4-A9FD-48AD-A35C-7154D5AB5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____          Clase 801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18 de abril del 20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70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uál fue el ultimo libro que leí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7030a0"/>
                </a:solidFill>
                <a:latin typeface="Arial"/>
              </a:rPr>
              <a:t>L.O: to review the preterite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py and rewrite in the present te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comí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bebi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endimos mucho en la esc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los no lo vendie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tedes comprendieron,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verbos Oir, L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60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erb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i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hear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irregular en el presente y también en el pretérit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erbo Leer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to read)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pretérito tiene la misma terminación que Oí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038480" y="914400"/>
          <a:ext cx="4843440" cy="2773440"/>
        </p:xfrm>
        <a:graphic>
          <a:graphicData uri="http://schemas.openxmlformats.org/drawingml/2006/table">
            <a:tbl>
              <a:tblPr/>
              <a:tblGrid>
                <a:gridCol w="2017800"/>
                <a:gridCol w="1413000"/>
                <a:gridCol w="141264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i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er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038480" y="3997440"/>
          <a:ext cx="4953240" cy="2558880"/>
        </p:xfrm>
        <a:graphic>
          <a:graphicData uri="http://schemas.openxmlformats.org/drawingml/2006/table">
            <a:tbl>
              <a:tblPr/>
              <a:tblGrid>
                <a:gridCol w="1238400"/>
                <a:gridCol w="1158840"/>
                <a:gridCol w="1436760"/>
                <a:gridCol w="1119240"/>
              </a:tblGrid>
              <a:tr h="5461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L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 ella 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ellas U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93"/>
          <p:cNvSpPr/>
          <p:nvPr/>
        </p:nvSpPr>
        <p:spPr>
          <a:xfrm>
            <a:off x="6356520" y="1727280"/>
            <a:ext cx="73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4"/>
          <p:cNvSpPr/>
          <p:nvPr/>
        </p:nvSpPr>
        <p:spPr>
          <a:xfrm>
            <a:off x="6365880" y="2117880"/>
            <a:ext cx="759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5"/>
          <p:cNvSpPr/>
          <p:nvPr/>
        </p:nvSpPr>
        <p:spPr>
          <a:xfrm>
            <a:off x="6354000" y="2498760"/>
            <a:ext cx="633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6"/>
          <p:cNvSpPr/>
          <p:nvPr/>
        </p:nvSpPr>
        <p:spPr>
          <a:xfrm>
            <a:off x="6217560" y="2879640"/>
            <a:ext cx="94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7"/>
          <p:cNvSpPr/>
          <p:nvPr/>
        </p:nvSpPr>
        <p:spPr>
          <a:xfrm>
            <a:off x="6325560" y="3260880"/>
            <a:ext cx="801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8"/>
          <p:cNvSpPr/>
          <p:nvPr/>
        </p:nvSpPr>
        <p:spPr>
          <a:xfrm>
            <a:off x="7711200" y="1676520"/>
            <a:ext cx="41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9"/>
          <p:cNvSpPr/>
          <p:nvPr/>
        </p:nvSpPr>
        <p:spPr>
          <a:xfrm>
            <a:off x="7659360" y="2133720"/>
            <a:ext cx="802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0"/>
          <p:cNvSpPr/>
          <p:nvPr/>
        </p:nvSpPr>
        <p:spPr>
          <a:xfrm>
            <a:off x="7649640" y="2514600"/>
            <a:ext cx="639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1"/>
          <p:cNvSpPr/>
          <p:nvPr/>
        </p:nvSpPr>
        <p:spPr>
          <a:xfrm>
            <a:off x="7705080" y="2895480"/>
            <a:ext cx="94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2"/>
          <p:cNvSpPr/>
          <p:nvPr/>
        </p:nvSpPr>
        <p:spPr>
          <a:xfrm>
            <a:off x="7670520" y="3276720"/>
            <a:ext cx="107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oy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3"/>
          <p:cNvSpPr/>
          <p:nvPr/>
        </p:nvSpPr>
        <p:spPr>
          <a:xfrm>
            <a:off x="5469840" y="4556160"/>
            <a:ext cx="48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4"/>
          <p:cNvSpPr/>
          <p:nvPr/>
        </p:nvSpPr>
        <p:spPr>
          <a:xfrm>
            <a:off x="5378040" y="5318280"/>
            <a:ext cx="87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5"/>
          <p:cNvSpPr/>
          <p:nvPr/>
        </p:nvSpPr>
        <p:spPr>
          <a:xfrm>
            <a:off x="5368320" y="5943600"/>
            <a:ext cx="711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y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6"/>
          <p:cNvSpPr/>
          <p:nvPr/>
        </p:nvSpPr>
        <p:spPr>
          <a:xfrm>
            <a:off x="7974720" y="4572000"/>
            <a:ext cx="1020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7"/>
          <p:cNvSpPr/>
          <p:nvPr/>
        </p:nvSpPr>
        <p:spPr>
          <a:xfrm>
            <a:off x="7827480" y="5943600"/>
            <a:ext cx="1145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ey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jercicio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.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 8.7-8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 p.8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399240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4:49:35Z</dcterms:created>
  <dc:creator>Helen Zumaeta</dc:creator>
  <dc:description/>
  <dc:language>en-US</dc:language>
  <cp:lastModifiedBy>Helen Zumaeta</cp:lastModifiedBy>
  <dcterms:modified xsi:type="dcterms:W3CDTF">2016-04-18T14:11:23Z</dcterms:modified>
  <cp:revision>13</cp:revision>
  <dc:subject/>
  <dc:title>Me llamo ___________          Clase 8im La fecha es el 18 de diciembre del 2012</dc:title>
</cp:coreProperties>
</file>